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10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17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91CF-9163-47D6-86A0-C822C7998B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47CD-81E2-4EE8-A48E-9A0D79CC19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ard Berry, Chief Scientist, ESTREL Technologi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Dr. Bertrand Meyer, Professor of Software Engineering, ETH, Zu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Mission Reliable: IEEE Computer, Januar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ТМО с 90-х годов разрабатывается автоматное программ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о АВ было разработано в рамках ВП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ирова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следствие начали проводиться работы для гражданских приме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л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АП попала в число 15 ведущих венчурных проектов России (2005)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развивает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изводства автомаш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ы ряд инструменталь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Mod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ычного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-Technology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микроконтроллеров и программируемых логических контролл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7E0C-2933-4E2F-B20D-D0A2DD552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2A1D-30FA-4D89-B513-A6206BC092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1872-7B2D-4C62-86E1-17922F2670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92D5-5E78-4946-9EEE-EA5E3741B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C54C-9271-44CB-A686-4CB1272DA3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DB73-E409-4E64-BB99-A9C567A0B1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37F4-779B-4CD8-9A75-85ECA990CC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ard Berry, Chief Scientist, ESTREL Technologi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Dr. Bertrand Meyer, Professor of Software Engineering, ETH, Zu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Mission Reliable: IEEE Computer, Januar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ТМО с 90-х годов разрабатывается автоматное программ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о АВ было разработано в рамках ВП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ирова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следствие начали проводиться работы для гражданских приме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л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АП попала в число 15 ведущих венчурных проектов России (2005)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развивает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изводства автомаш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ы ряд инструменталь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Mod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ычного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-Technology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микроконтроллеров и программируемых логических контролл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052E-5222-4A99-911B-AA4EC4BD10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ard Berry, Chief Scientist, ESTREL Technologi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Dr. Bertrand Meyer, Professor of Software Engineering, ETH, Zu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Mission Reliable: IEEE Computer, Januar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ТМО с 90-х годов разрабатывается автоматное программ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о АВ было разработано в рамках ВП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ф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ирова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следствие начали проводиться работы для гражданских приме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л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АП попала в число 15 ведущих венчурных проектов России (2005)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развивает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изводства автомаш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ы ряд инструменталь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Mod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ычного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-Technology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микроконтроллеров и программируемых логических контролл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E3DF-E16C-45EE-81D3-E3CE4A847C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23D1-4340-4C30-8783-9C92D86E74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9382-84A2-4815-BF87-72FD84524E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F607-3B1C-42AD-8F54-DB0D85542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C21E-45F5-4795-B08F-398D390C0D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D8AF-25B3-44BE-9236-3EF3E5157C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BD70D-3D8C-4BEB-884E-F0DD0B7D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A4F9F-D4BF-4495-B41C-B0AB6BFB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79752-9A5B-4869-91CC-AB5A456B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B49E5-551E-495F-97B4-534D3E51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BBF22-0A67-4868-BFFC-F497148D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7EE71-A8FB-44C2-97EF-EA936406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4C9AC-3839-4833-946D-F7D2DC7E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BA101-CBDB-4B85-BEFB-BCE3F50A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5EDF5-45D3-4122-91D4-A8C69662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84352-40B7-4A04-A9BF-0ADE2442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A568A-B75F-4CE2-AE9A-25C9FFB7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3775A-ED6A-4B8F-94ED-227AC9E2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61684-9E0B-4BF6-B40F-A697DDC3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B2194-6DA3-4A1E-BCE0-04877EAE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E6A1F-665E-4D49-BB63-6CFD8B7C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EB70-3DD6-427C-A787-239F808C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E48D-68BB-4D4D-A5CF-E2FEDC15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DFCDB-D19F-41E2-8D03-2BB7777D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75675-8CF6-4E92-984C-50ADF826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B0BBB-C4B8-4698-B097-A1B49666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16C20-D7D8-4D51-9E24-A1ADDB90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0B353-3FC2-45A3-85CA-87C25A81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CF786-C7D3-478C-882C-8642BE2A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2C3F8-616D-4297-8922-0C39F622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494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92000" y="122400"/>
            <a:ext cx="7127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2e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2e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31640" y="6308640"/>
            <a:ext cx="828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Царев Ф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Шалыто А.А. Групповое управление беспилотными летательными объектами на основе автоматного программ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604360" y="6400800"/>
            <a:ext cx="53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22F5-0D4A-4D16-99A3-47AFC2B14C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Object 8"/>
          <p:cNvGraphicFramePr/>
          <p:nvPr/>
        </p:nvGraphicFramePr>
        <p:xfrm>
          <a:off x="108000" y="115920"/>
          <a:ext cx="158436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5843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494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000" y="122400"/>
            <a:ext cx="7127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2e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2e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179280" y="6356520"/>
            <a:ext cx="856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.А. Шалы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втоматное програм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8604360" y="6400800"/>
            <a:ext cx="53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244C-F776-4505-9663-5F44ABE29A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108000" y="115920"/>
          <a:ext cx="158436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5843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rand"/>
          <p:cNvPicPr/>
          <p:nvPr/>
        </p:nvPicPr>
        <p:blipFill>
          <a:blip r:embed="rId2"/>
          <a:srcRect l="21355" t="0" r="0" b="0"/>
          <a:stretch/>
        </p:blipFill>
        <p:spPr>
          <a:xfrm>
            <a:off x="-20520" y="0"/>
            <a:ext cx="10857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324000" y="3357720"/>
            <a:ext cx="84438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9"/>
          <p:cNvGraphicFramePr/>
          <p:nvPr/>
        </p:nvGraphicFramePr>
        <p:xfrm>
          <a:off x="108000" y="115920"/>
          <a:ext cx="158436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5843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122400"/>
            <a:ext cx="7127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2e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2e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A79C-4D1F-41A8-B666-393503B374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9144000" cy="1494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604360" y="6400800"/>
            <a:ext cx="53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F3EA-9F33-4E3C-B6E0-773AD9A68C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8"/>
          <p:cNvGraphicFramePr/>
          <p:nvPr/>
        </p:nvGraphicFramePr>
        <p:xfrm>
          <a:off x="108000" y="115920"/>
          <a:ext cx="158436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5843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92000" y="122400"/>
            <a:ext cx="7127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2e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2e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6"/>
          </p:nvPr>
        </p:nvSpPr>
        <p:spPr>
          <a:xfrm>
            <a:off x="431640" y="6308640"/>
            <a:ext cx="828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Царев Ф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Шалыто А.А. Групповое управление беспилотными летательными объектами на основе автоматного программ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324000" y="3357720"/>
            <a:ext cx="84438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9"/>
          <p:cNvGraphicFramePr/>
          <p:nvPr/>
        </p:nvGraphicFramePr>
        <p:xfrm>
          <a:off x="108000" y="115920"/>
          <a:ext cx="158436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5843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92000" y="122400"/>
            <a:ext cx="7127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2e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2e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4E9D-D502-4285-B6EA-7DC3E4C810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rand"/>
          <p:cNvPicPr/>
          <p:nvPr/>
        </p:nvPicPr>
        <p:blipFill>
          <a:blip r:embed="rId2"/>
          <a:srcRect l="21355" t="0" r="0" b="0"/>
          <a:stretch/>
        </p:blipFill>
        <p:spPr>
          <a:xfrm>
            <a:off x="-20520" y="0"/>
            <a:ext cx="108576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ftr" idx="10"/>
          </p:nvPr>
        </p:nvSpPr>
        <p:spPr>
          <a:xfrm>
            <a:off x="179280" y="6356520"/>
            <a:ext cx="856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А. Шалы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атное программ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rand"/>
          <p:cNvPicPr/>
          <p:nvPr/>
        </p:nvPicPr>
        <p:blipFill>
          <a:blip r:embed="rId2"/>
          <a:srcRect l="21355" t="0" r="0" b="0"/>
          <a:stretch/>
        </p:blipFill>
        <p:spPr>
          <a:xfrm>
            <a:off x="-20520" y="0"/>
            <a:ext cx="108576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ftr" idx="11"/>
          </p:nvPr>
        </p:nvSpPr>
        <p:spPr>
          <a:xfrm>
            <a:off x="179280" y="6356520"/>
            <a:ext cx="856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А. Шалы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атное программ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rand"/>
          <p:cNvPicPr/>
          <p:nvPr/>
        </p:nvPicPr>
        <p:blipFill>
          <a:blip r:embed="rId2"/>
          <a:srcRect l="21355" t="0" r="0" b="0"/>
          <a:stretch/>
        </p:blipFill>
        <p:spPr>
          <a:xfrm>
            <a:off x="-20520" y="0"/>
            <a:ext cx="108576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ftr" idx="12"/>
          </p:nvPr>
        </p:nvSpPr>
        <p:spPr>
          <a:xfrm>
            <a:off x="179280" y="6356520"/>
            <a:ext cx="856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А. Шалы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атное программ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Автоматное программирование в АСУТ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71280" y="62028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втоматное программировани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— это парадигма программирования, при использовании которой программа или её фрагмент осмысливается как модель какого-либо формального автома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радигма программирова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 это система идей и понятий, определяющих стиль написания компьютерных программ, а также образ мышления программиста (структурное (блок-схема), объектно-ориентированное (классы, объекты), процедурное (список инструкций, машина Тьюринга) и т.д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ределяющими для автоматного программирования являются следующие особен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ременной период выполнения программы разбивается на шаги автомата, каждый из которых представляет собой выполнение определённой (одной и той же для каждого шага) секции код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дача информации между шагами автомата осуществляется только через явно обозначенное множество переменных, называемых состоянием автомат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libri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ение кода в автоматном стиле представляет собой цикл шагов автома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звание автоматное программирование оправдывается ещё и тем, что стиль мышления (восприятия процесса исполнения) при программировании в этой технике практически точно воспроизводит стиль мышления при составлении формальных автоматов (таких как машина Тьюринга, автомат Маркова и др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Генерация автоматов и генетическое программировани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79280" y="1628280"/>
            <a:ext cx="85075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сновная сложность в автоматном программировании – построение автомато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большинстве случаев автоматы проектируются вручную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днако эвристическое построение автоматов часто затруднено или невозможн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Решение – автоматическое построение конечных автоматов с помощью генетического программирова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Это позволит повысить уровень автоматизации построения программ рассматриваемого класс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Материалы – на сайте </a:t>
            </a:r>
            <a:r>
              <a:rPr b="0" lang="en-US" sz="2300" spc="-1" strike="noStrike" u="sng">
                <a:solidFill>
                  <a:srgbClr val="0000ff"/>
                </a:solidFill>
                <a:uFillTx/>
                <a:latin typeface="Calibri"/>
              </a:rPr>
              <a:t>http://is.ifmo.ru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раздел «Генетические алгоритмы»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122400"/>
            <a:ext cx="7127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истема управления = нейронная сеть + конечный автом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йронная сеть преобразует вещественные входные переменные в логическ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0" name="Object 10"/>
          <p:cNvGraphicFramePr/>
          <p:nvPr/>
        </p:nvGraphicFramePr>
        <p:xfrm>
          <a:off x="1116000" y="3500280"/>
          <a:ext cx="6697800" cy="26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500280"/>
                    <a:ext cx="6697800" cy="26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122400"/>
            <a:ext cx="7127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3859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обь = две системы управления беспилотным объект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обь из двух систем – для учета взаимодействия объект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4" name="Object 15"/>
          <p:cNvGraphicFramePr/>
          <p:nvPr/>
        </p:nvGraphicFramePr>
        <p:xfrm>
          <a:off x="3635280" y="2133720"/>
          <a:ext cx="5437440" cy="29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133720"/>
                    <a:ext cx="543744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Rectangle 7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утация особ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утация системы управления летательным объект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тация нейронной с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тация элемента се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тация конечного автом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менение начального состоя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тация пере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крещивание особ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рещивание систем управления летающей тарелк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рещивание автома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рещивание нейронных с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3" descr="full"/>
          <p:cNvPicPr/>
          <p:nvPr/>
        </p:nvPicPr>
        <p:blipFill>
          <a:blip r:embed="rId1"/>
          <a:stretch/>
        </p:blipFill>
        <p:spPr>
          <a:xfrm>
            <a:off x="179280" y="2852640"/>
            <a:ext cx="3888000" cy="292752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4"/>
          <p:cNvSpPr/>
          <p:nvPr/>
        </p:nvSpPr>
        <p:spPr>
          <a:xfrm>
            <a:off x="250920" y="177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а: налить как можно больше бутылок за заданный промежуток времен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5"/>
          <p:cNvGraphicFramePr/>
          <p:nvPr/>
        </p:nvGraphicFramePr>
        <p:xfrm>
          <a:off x="4282920" y="2924280"/>
          <a:ext cx="4753080" cy="276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2920" y="2924280"/>
                    <a:ext cx="475308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6"/>
          <p:cNvSpPr/>
          <p:nvPr/>
        </p:nvSpPr>
        <p:spPr>
          <a:xfrm>
            <a:off x="1692360" y="122400"/>
            <a:ext cx="7127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2ec00"/>
                </a:solidFill>
                <a:latin typeface="Arial"/>
              </a:rPr>
              <a:t>«Народная» задача – «Разливочная линия»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92000" y="122400"/>
            <a:ext cx="7127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я «народной» 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5" name="Object 8"/>
          <p:cNvGraphicFramePr/>
          <p:nvPr/>
        </p:nvGraphicFramePr>
        <p:xfrm>
          <a:off x="468360" y="1916280"/>
          <a:ext cx="3375000" cy="33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16280"/>
                    <a:ext cx="337500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9"/>
          <p:cNvGraphicFramePr/>
          <p:nvPr/>
        </p:nvGraphicFramePr>
        <p:xfrm>
          <a:off x="3924360" y="2421000"/>
          <a:ext cx="489564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2421000"/>
                    <a:ext cx="48956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-360" y="5229360"/>
            <a:ext cx="889308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троен вручну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Построен автоматическ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Автоматное программирование в АСУТ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14" descr=""/>
          <p:cNvPicPr/>
          <p:nvPr/>
        </p:nvPicPr>
        <p:blipFill>
          <a:blip r:embed="rId1"/>
          <a:stretch/>
        </p:blipFill>
        <p:spPr>
          <a:xfrm>
            <a:off x="2843280" y="1628640"/>
            <a:ext cx="3197160" cy="280836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648960" y="10526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шина Тьюринг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3"/>
          <p:cNvSpPr/>
          <p:nvPr/>
        </p:nvSpPr>
        <p:spPr>
          <a:xfrm>
            <a:off x="1042920" y="4494240"/>
            <a:ext cx="7850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бстрактная  машина  была  предложена  А. М. Тьюрингом  в  1936  г.  в  качестве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ального  определения  понятия  «алгоритм».  Тезис  Черча-Тьюринга гласит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 все,  что  можно  «вычислить»,  «запрограммировать»  или  «распознать» с помощью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ходящей машины Тьюринга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шина Тьюринга состоит из двух частей: устройства управления и запоминающего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а – ленты. Лента состоит из бесконечного числа ячеек, в которых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гут  быть  записаны  символы  некоторого  конечного  алфавита.  В  каждый  момент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ени на одной из ячеек ленты установлена головка чтения-записи, позволяющая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у управления считывать или записывать символ в этой ячейке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6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5184720" cy="20541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826560" y="764640"/>
            <a:ext cx="8425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граммные системы предлагается разрабатывать так же, как выполняется автоматизация технологических процесс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стема управления является системой взаимодействующих конечных автоматов (состояния автомата, а не события)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ществует два подхода алгоритмизации систем этого класса. В первом из них считается, что известен алгоритм функционирования объекта управления и требуется по нему синтезировать алгоритм логического управления, обеспечивающий заданное поведение: «Для того чтобы клапан открылся, вычислитель должен на вход открытия исполнительного механизма клапана подавать единичный сигнал». Во втором подходе учитывается информация о состоянии объекта управления: «Если вычислитель подает на вход открытия исполнительного механизма клапана единичный сигнал, то клапан открывается». Таким образом, первая стратегия базируется на понятии «состояние», а вторая -- на понятии «событие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 языках высокого уровня представление автомата в виде графа переходов удобно выполнять при помощи конструкци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131640" y="11592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Автоматное программирование в АСУТ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8" descr=""/>
          <p:cNvPicPr/>
          <p:nvPr/>
        </p:nvPicPr>
        <p:blipFill>
          <a:blip r:embed="rId2"/>
          <a:stretch/>
        </p:blipFill>
        <p:spPr>
          <a:xfrm>
            <a:off x="6372360" y="4221000"/>
            <a:ext cx="191448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Объект 1"/>
          <p:cNvGraphicFramePr/>
          <p:nvPr/>
        </p:nvGraphicFramePr>
        <p:xfrm>
          <a:off x="2627280" y="2133720"/>
          <a:ext cx="3960720" cy="14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133720"/>
                    <a:ext cx="396072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2"/>
          <p:cNvSpPr/>
          <p:nvPr/>
        </p:nvSpPr>
        <p:spPr>
          <a:xfrm>
            <a:off x="3132000" y="11592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Автоматное программирование в АСУТ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3"/>
          <p:cNvSpPr/>
          <p:nvPr/>
        </p:nvSpPr>
        <p:spPr>
          <a:xfrm>
            <a:off x="611280" y="727200"/>
            <a:ext cx="820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 связей -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яет интерфейс автоматов и позволяет применять в графах переходов и в реализующих их программах символьные обозначения. Для объектно-ориентированных программ с явным выделением состояний диаграммы классов в рамках рассматриваемого подхода изображаются в виде схем связей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4"/>
          <p:cNvSpPr/>
          <p:nvPr/>
        </p:nvSpPr>
        <p:spPr>
          <a:xfrm>
            <a:off x="611280" y="3917880"/>
            <a:ext cx="8208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дирование состоян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остояния кодируются для того, чтобы различать их. Это особенно важно, когда в разных состояниях формируются одинаковые значения выходных переменных. Могут использоваться различные виды кодирования состояний, но в качестве основного используется многозначное кодирование, позволяющее кодировать состояния любого автомата с помощью только одной переменной. При этом ее разрядность должна быть равна числу состояний рассматриваемого автомата, а каждому состоянию присваивается соответствующий номер. Возможность слежения за состояниями автомата по значениям одной многозначной переменной позволяет ввести в программирование (по аналогии с теорией управления) понятие «наблюдаемость»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3132000" y="11592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Автоматное программирование в АСУТ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2"/>
          <p:cNvSpPr/>
          <p:nvPr/>
        </p:nvSpPr>
        <p:spPr>
          <a:xfrm>
            <a:off x="250920" y="620640"/>
            <a:ext cx="8713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 программы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и использовании Switch-технологии программы (их схемы) должны строиться, начиная с дешифратора состояний, а не с дешифратора входных воздействий, как это делается при использовании других стилей программировани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бстрактный автомат - модель, имеющего один вход, один выход и в каждый момент времени находящегося в одном состоянии из множества возможных. Формально абстрактный автомат определяется как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S     — множество состояний автомата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, Y — входной и выходной алфавиты, из которых формируются строки, считываемые и выдаваемые автоматом;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я переходов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я выходов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3235320" y="1844640"/>
            <a:ext cx="2081160" cy="289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330120" y="2781360"/>
            <a:ext cx="1589040" cy="234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317520" y="2997360"/>
            <a:ext cx="1590480" cy="239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"/>
          <p:cNvPicPr/>
          <p:nvPr/>
        </p:nvPicPr>
        <p:blipFill>
          <a:blip r:embed="rId4"/>
          <a:stretch/>
        </p:blipFill>
        <p:spPr>
          <a:xfrm>
            <a:off x="1403280" y="4365720"/>
            <a:ext cx="5905440" cy="185076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9"/>
          <p:cNvSpPr/>
          <p:nvPr/>
        </p:nvSpPr>
        <p:spPr>
          <a:xfrm>
            <a:off x="209520" y="3284640"/>
            <a:ext cx="87123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ществуют тр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хемы реализации автома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Четырехуровневая схема программ (дешифратор состояний — дешифратор входных воздействий — выходные воздействия — формирование следующих состояний) реализует автоматы Мили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автомата Мили полностью совпадает с определением формального автомата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1297080" y="907920"/>
            <a:ext cx="6227640" cy="1954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2"/>
          <p:cNvSpPr/>
          <p:nvPr/>
        </p:nvSpPr>
        <p:spPr>
          <a:xfrm>
            <a:off x="3132000" y="11592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Автоматное программирование в АСУТ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9"/>
          <p:cNvSpPr/>
          <p:nvPr/>
        </p:nvSpPr>
        <p:spPr>
          <a:xfrm>
            <a:off x="209520" y="620640"/>
            <a:ext cx="87123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Четырехуровневая схема программ (дешифратор состояний — выходные воздействия - дешифратор входных воздействий — формирование следующих состояний) реализует автоматы Мур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3"/>
          <p:cNvSpPr/>
          <p:nvPr/>
        </p:nvSpPr>
        <p:spPr>
          <a:xfrm>
            <a:off x="209520" y="2924280"/>
            <a:ext cx="871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ятиуровневая схема программ (дешифратор состояний — выходные воздействия — дешифратор входных воздействий — выходные воздействия — формирование следующих состояний) реализует смешанные автоматы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хемы программ с указанной структурой названы автоматными. При таком построении граф переходов, автоматная схема программ и конструкция языка программирования аналогичная конструкции switch языка C, реализующая дешифратор состояний, изоморфн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12"/>
          <p:cNvSpPr/>
          <p:nvPr/>
        </p:nvSpPr>
        <p:spPr>
          <a:xfrm>
            <a:off x="250920" y="4637160"/>
            <a:ext cx="8670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заимодействия автоматов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маты могут взаимодействовать по вложенности (один автомат вложен в одно или несколько состояний другого автомата), по вызываемости (один автомат вызывается с определенным событием из выходного воздействия, формируемого при переходе другого автомата), по обмену сообщениями (один автомат получает сообщения от другого) и по номерам состояний (один автомат проверяет, в каком состоянии находится другой автомат). Ни число автоматов, вложенных в состояние, ни глубина вложенности не ограничены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3132000" y="11592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Автоматное программирование в АСУТ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900000" y="620640"/>
            <a:ext cx="8136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изация графов переход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графы переходов реализуются, например, с помощью конструкции switch (например, языка Си) по соответствующим шаблонам (поэтому предлагаемый подход был назван «Switch-технология»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каждого автомата создается четыре документа: словесное описание алгоритма (декларация о намерениях), схема связей, граф переходов и реализаци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изация выполняется так, что в каждом программном цикле или при каждом запуске автомата в нем выполняется не более одного перехода. Это делает номер каждого состояния автомата доступным для его «окружения» и позволяет не вводить новых переменных для обеспечения взаимодействия автоматов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имущ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адает наибольшей эффективностью для систем со сложным поведен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альное и понятное описание пове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матическая генерация кода по диаграммам пере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верификации програ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ная докумен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284360" y="1557000"/>
            <a:ext cx="50403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Железо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кропроцесс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кроконтролле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ируемые логические контролле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арадиг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ду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ктно-ориентирова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зыки контролл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Лестничные схем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Функциональные схем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1609200"/>
            <a:ext cx="45720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стемы высокой надеж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оенные приложени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Аэрокосмическая индустри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роенные систем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бильные систем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изуализато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прилож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лиент-сервер прилож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08:46:31Z</dcterms:created>
  <dc:creator>Fedor Tsarev</dc:creator>
  <dc:description/>
  <dc:language>en-US</dc:language>
  <cp:lastModifiedBy>Wisam</cp:lastModifiedBy>
  <dcterms:modified xsi:type="dcterms:W3CDTF">2012-09-20T09:54:39Z</dcterms:modified>
  <cp:revision>254</cp:revision>
  <dc:subject/>
  <dc:title>Технология моделирования одного класса мультиагентных систем на основе автоматного программирования</dc:title>
</cp:coreProperties>
</file>